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7750-FBE4-4E09-9410-DB4F513162B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6007-66C0-4748-AAD6-F1AA1576D975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EAED-D1E4-44E8-AF24-BE93E012E3E7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B582-5DDA-4662-AF36-E81AD2DE992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B906-8636-43E6-A148-EF799C359874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9508-C401-427C-BA9C-F4FD62B3CE8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1854-F510-448D-91E1-62DE0D080D30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06F3-A844-4F9C-9B86-DD63F4A56735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22CF-B3E6-49D3-8E72-22334B69CF36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BA47-E4EA-4E47-824B-C498ACE080A3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C103-A5AE-4EEA-B81E-495179DE44D3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ABF0-55E0-4276-9E77-2CD48CFFB754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0EE9-BBBD-41F5-BE23-EF3293E9121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6C1E-B20C-4B78-8110-B0D38F2A51BA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318D-F861-4804-B53D-7F4BAED53DF9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BBFB-07B0-4CFC-90D4-69EFC13066CD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7E1C-9B7A-4DF6-B794-E102884908BE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858D-89B6-4032-90D9-5636C6A3229A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216A-B0C4-460C-B0A0-E7503FAF0DB8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0A57-1539-43FB-B479-396C8BEE06AB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FC50-3159-49D6-8FF0-1E1FB4547EE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2C74-2D39-4929-B263-761FC859D85E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F766-400F-4C1E-B5F9-9ACCE6FE40AF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4BA9-107B-477D-8B18-8F6730179AFE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A622-59F5-4DDD-BB24-13E9EC83C1BF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8E0E-2CEA-488F-9E9B-43A2BFD58F1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4716-BD6E-4518-B93F-CF9AE71ECE77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B827-60BD-4D05-8B2E-D65DA75B15EB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93E-22CC-4294-BA8E-1F68DF67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F85-A862-45F8-B081-E0BFF26B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001D-1CF2-47CA-891A-E9A67385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B72-FE6C-4BEA-B80C-24497046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55B-582B-48F2-932A-5A85B455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28E-A4FE-48E5-963C-106A8E61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B3B2-8FB1-48BF-92CC-1ACCF42A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C08-5EB7-4439-860C-16720229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94A-1520-4360-BC24-4F343830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5F2-BD4B-4764-9200-A302FC1C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023-4254-4192-9AD8-212CBC68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D60-5800-4B33-9E6A-4ECE5F2A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165E-6039-440E-AB2E-CE95AEDA25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  <a:ea typeface="바탕"/>
              </a:rPr>
              <a:t>ΑΙΜΟΣΦΑΙΡΙΝΟΠΑΘΕΙ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  <a:ea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b024a6"/>
                </a:solidFill>
                <a:latin typeface="Calibri"/>
              </a:rPr>
              <a:t> </a:t>
            </a: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β-Θαλασσαιμί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34100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β-ΜΑ αποτελούν μια ομάδα κληρονομικών νοσημάτων που οφείλονται σε ελαττωμένη σύνθεση της β αλυσίδας, λόγω μεταλλάξεων του β γονιδίου (στο βραχύ σκέλος  του χρωμοσώματος 1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μεταλλάξεις αυτές έχουν ως συνέπεια τη μειωμένη παραγωγή β-αλυσίδων, με αποτέλεσμα   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η περίσσεια των α-αλυσίδων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να σχηματίζει τετραμερή με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σφαιρίνες δ ή γ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, σχηματίζοντας αντίστοιχα τις αιμοσφαιρίνε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Α2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και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σοβαρότητα της νόσου εξαρτάται από τη φύση της μετάλλαξη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52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γενετικές διαταραχές παρουσιάζουν μεγάλη ετερογένεια. Έχουν καταγραφεί περίπου 35 μεταλλάξεις στο β γονίδιο (11 οι συχνότερε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μεταλλάξεις οι οποίες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μειώνουν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 σύνθεση των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β αλυσίδων αιμοσφαιρίνης είναι γνωστές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μεταλλάξεις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1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βήτα συν) ΜΑ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ενώ αυτές οι οποίες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καταργούν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ύνθεσή τους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μεταλλάξεις β</a:t>
            </a:r>
            <a:r>
              <a:rPr b="1" lang="el-GR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βήτα μηδέν) ΜΑ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Κάποιες μεταλλάξεις που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επιτρέπουν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σε σημαντικό βαθμό τη σύνθεσ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ων β-αλυσίδων είναι γνωστές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μεταλλάξεις β</a:t>
            </a:r>
            <a:r>
              <a:rPr b="1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2209680" y="3808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ΓΕΝΕΤΙΚΕΣ ΔΙΑΤΑΡΑΧ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0520" y="114300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περισσότερες μεταλλάξεις β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0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και β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έχουν επίπτωση στον αιματολογικό φαινότυπο των φορέων και προκαλούν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: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BC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(αύξηση αριθμού ερυθρώ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MCV (μείωση μέσου όγκου ερυθρώ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MCH (↓ μέσης ποσότητας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Hb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ανά ερυθροκύτταρο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Hb A</a:t>
            </a:r>
            <a:r>
              <a:rPr b="1" lang="el-GR" sz="28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) συνήθως μεταξύ 4-6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Παρ’ όλα αυτά υπάρχουν εξαιρέσεις με φυσιολογικό ή διαφορετικό φαινότυπ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- TextBox"/>
          <p:cNvSpPr/>
          <p:nvPr/>
        </p:nvSpPr>
        <p:spPr>
          <a:xfrm>
            <a:off x="838080" y="3049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ΠΙΠΤΩΣΕΙΣ ΣΤΟΝ ΦΑΙΝΟΤΥΠ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ΜΟΡΦΕΣ β-ΜΕΣΟΓΕΙΑΚΗΣ ΑΝΑΙΜΙΑ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μόζυγη ή Μείζων Θαλασσαιμία  (ή ν.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ole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ή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1f497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νδιάμεση β-Θαλασσαιμία (ετερόζυγη με β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λάσσον (ετερόζυγη με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) β-Θαλασσαιμία (ή «στίγμα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ιωπηλή β-Θαλασσ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η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ή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Προσοχή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ίναι η φυσιολογική β-αλυσίδα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ή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ια μορφή χωρίς κλινικές εκδηλώσ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τά τον 3ο-6ο μήνα το παιδί εμφανίζει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Έντονη ωχρότητα  (λόγω αναιμία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Λεμονοειδή απόχρωση (λόγω ίκτερο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πατ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Υπολείπεται σε ανάπτυξη (λόγω ιστικής υποξία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Η ζωή των ασθενών εξαρτάται άμεσα από τη μετάγγιση αίματος , ήδη από την πρώιμη  παιδική ηλικ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- TextBox"/>
          <p:cNvSpPr/>
          <p:nvPr/>
        </p:nvSpPr>
        <p:spPr>
          <a:xfrm>
            <a:off x="15228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ΟΜΟΖΥΓΗ β-ΜΕΣ. ΑΝΑΙΜΙ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Κλινική εικόν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Παθοφυσιολογία των κλινικών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κδηλώσεων στη β-Μεσ.Α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έλλειψη ή η μειωμένη παραγωγή  β-αλυσίδων συνοδεύεται από υπερπαραγωγή  γ-αλυσίδων και  δ-αλυσίδω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ι α-αλυσίδες που περισσεύουν σχηματίζουν τετραμερή ( α4 ) που κατακρημνίζονται και προκαλούν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ρόωρο θάνατο των ερυθροβλαστών εντός του μυελού (ενδομυελική καταστροφή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ρόωρη φαγοκυττάρωση των ερυθροκυττάρων στο σπλήνα (εξαγγειακή αιμόλυση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λινική εικόν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7617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1f497d"/>
                </a:solidFill>
                <a:uFillTx/>
                <a:latin typeface="Calibri"/>
              </a:rPr>
              <a:t>Ι. Η μη αποτελεσματική ερυθροποίηση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και η ελαττωμένη επιβίωση των ερυθροκυττάρων οδηγούν σε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Χρόνια Αιμολυτική Αναιμί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Ίκτερο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Συνεχή εμφάνιση Χολολιθίαση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Η Αναιμία → Χρόνια Ιστική  Υποξία → Υπολειπόμενη σωματική  ανάπτυξη του παιδιού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Αυξημένα επίπεδα σιδήρου και κίνδυνος εναπόθεσή του σε καρδιά και ήπαρ (διόγκωση ήπατο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1f497d"/>
                </a:solidFill>
                <a:uFillTx/>
                <a:latin typeface="Calibri"/>
              </a:rPr>
              <a:t>ΙΙ. Η αυξημένη ενδομυελική ερυθροποίηση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οδηγεί  σ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παραμόρφωση των οστών, ιδιαίτερα κρανίου-προσώπο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1f497d"/>
                </a:solidFill>
                <a:uFillTx/>
                <a:latin typeface="Calibri"/>
              </a:rPr>
              <a:t>ΙΙΙ. Η εξωμυελική ερυθροποίηση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συνεπάγετα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Ηπατομεγαλί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Υπερσπληνισμό    → Αναιμία(επιδείνωση της αναιμία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                                              →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θρομβοπενί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                                              →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λευκοπενία (ευαισθησία σε λοιμώξει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1f497d"/>
                </a:solidFill>
                <a:uFillTx/>
                <a:latin typeface="Calibri"/>
              </a:rPr>
              <a:t>I</a:t>
            </a:r>
            <a:r>
              <a:rPr b="1" lang="en-US" sz="2000" spc="-1" strike="noStrike" u="sng">
                <a:solidFill>
                  <a:srgbClr val="1f497d"/>
                </a:solidFill>
                <a:uFillTx/>
                <a:latin typeface="Calibri"/>
              </a:rPr>
              <a:t>V. </a:t>
            </a:r>
            <a:r>
              <a:rPr b="1" lang="el-GR" sz="2000" spc="-1" strike="noStrike" u="sng">
                <a:solidFill>
                  <a:srgbClr val="1f497d"/>
                </a:solidFill>
                <a:uFillTx/>
                <a:latin typeface="Calibri"/>
              </a:rPr>
              <a:t>Οι πολλές μεταγγίσεις </a:t>
            </a:r>
            <a:r>
              <a:rPr b="0" lang="el-GR" sz="2000" spc="-1" strike="noStrike">
                <a:solidFill>
                  <a:srgbClr val="1f497d"/>
                </a:solidFill>
                <a:latin typeface="Calibri"/>
              </a:rPr>
              <a:t>οδηγούν σε πολλές επιπλοκές: Αιμοσιδήρωση με κίνδυνο καρδιακής ανεπάρκειας κλ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ff0000"/>
                </a:solidFill>
                <a:latin typeface="Calibri"/>
              </a:rPr>
              <a:t>Οι ασθενείς χρειάζονται πολλές μεταγγίσεις και αποσιδήρωση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πιπλοκέ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Οφείλονται  στις συνεχείς μεταγγίσεις  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που οδηγούν σε υπερφόρτιση των ιστών με σίδηρο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Υπολειπόμενη σωματική ανάπτυξη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Ορμονικές επιπλοκέ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Διαταραχές μεταβολισμού γλυκόζη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Μυοκαρδιοπάθει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Ηπατική ίνωσ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Χρόνια Αιμόλυσ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Χολολιθίασ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Λοιμώξει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Θρομβωτικά Επεισόδι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Οστεοπενί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Νεφρική δυσλειτουργί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ργαστηριαρά Ευρήματ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ΓΕΝΙΚΗ ΑΙΜΑΤΟ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Σοβαρή Υπόχρωμη Μικροκυτταρική Αναιμί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Μεγάλη πτώση Η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b, MCV,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MCH, MCH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υξημένα Δικτυοερυθροκύτταρα στο αίμ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Οι αναλυτές καταγράφουν τα ερυθρά ως αιμοπετάλια (πλασματική αύξηση αιμοπεταλίων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Λευκά και αιμοπετάλια ελαφρώς αυξημέν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ΕΠΙΧΡΙΣΜΑ ΑΙΜΑΤΟ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Ποικολοκυττάρωση, ανισοκυττάρωση, βασεόφιλη στίξ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Παρουσία ερυθροβλαστών στο περιφερικό αίμ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ργαστηριαρά Ευρήματ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9140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ΜΥΕΛΟΣ ΟΣΤΩ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Υπερπλασία ερυθρής σειράς με βασεόφιλη στίξ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ύξηση σιδήρου στο μυελό (χρώση μυελού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ΚΛΑΣΜΑΤΑ ΑΙΜΟΣΦΑΙΡΙΝΗΣ(Με ηλεκροφόρηση ή 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HPLC</a:t>
            </a: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ιμοσφαιρίνη Α: Απούσα ή μειωμέν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ιμοσφαιρίνη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F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: Αυξημέν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ιμοσφαιρίνη Α2: Αυξημέν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ΒΙΟΧΗΜΙΚΑ ΕΥΡΗΜΑΤ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ύξηση χολερυθρίνης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και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LD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Επί χολολιθίασης: Αύξηση αλκαλικής φωσφατάσης και γ-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G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Σε ηπατική ανεπάρκεια: Μείωση χοληστερίνη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                   </a:t>
            </a: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ΑΙΜΟΣΦΑΙΡΙΝΟΠΑΘΕΙΕΣ</a:t>
            </a:r>
            <a:br>
              <a:rPr sz="1800"/>
            </a:br>
            <a:br>
              <a:rPr sz="18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Είναι κληρονομικές διαταραχές της σύνθεσης της αιμοσφαιρίνης, που οφείλονται σ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γονιδιακά αίτια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Αποτελούν μία από τις συχνότερες γενετικές διαταραχές  του ανθρώπου. </a:t>
            </a:r>
            <a:br>
              <a:rPr sz="2600"/>
            </a:b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Διαιρούνται σε δύο κατηγορίες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: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Ι. Αυτές που οδηγούν σ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ποσοτική διαταραχή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ης 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αιμοσφαιρίνης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(Θαλασσαιμίες) 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ΙΙ. Αυτές που οδηγούν σ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ποιοτική διαταραχή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ης 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δομής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ης αιμοσφαιρίνης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(Αιμοσφαιρινοπάθειες)</a:t>
            </a:r>
            <a:br>
              <a:rPr sz="2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Θεραπεί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Μεταγγίσεις αίματ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Αποσιδήρωση (με φάρμακ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Συμπτωματική Αγωγή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Σπληνεκτομή (ενδεχομένω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Μεταμόσχευση του μυελού των οστών (μεταμόσχευση αρχέγονων αιμοποιητικών κυττάρων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Γονιδιακή θεραπεία (αντικατάσταση παθολογικού γονιδίου - Διαφαίνεται πραγματοποιήσιμη στο μέλλον – ίσως σε 5 χρόνι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ΕΝΔΙΑΜΕΣΗ β-ΘΑΛΑΣΣΑΙΜΙ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Κατά κανόνα, ετερόζυγη με β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        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ή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νδιάμεση κλινική κατάσταση μεταξύ ετερόζυγης –μείζονος Μεσ. Αναιμία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έτρια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εν απαιτείται μετάγγιση αίματο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ακρά επιβί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Ενδιάμεση β-θαλασσαιμί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371600"/>
          <a:ext cx="8229600" cy="517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                             </a:t>
                      </a:r>
                      <a:r>
                        <a:rPr b="1" i="1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ργαστηριακά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υρ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ρυθροκυτταρικοί δεί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κτες 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CV, MCH, MCH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ειωμέ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χρισμα περιφερικο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ίμα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υρήματα ετερόζυγης β-ΜΑ αλλά σ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ντονότερο βαθμό με συχνή εμφάνιση και εμπύρηνων ερυθρώ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πεδα 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-10 g/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υελό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Έντονη ερυθροβλαστικ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δραστηριότη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Ηλεκτροφόρηση 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Τα ευρήματα εξαρτώνται από τ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ίδος της γενετικής διαταραχή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Γενικά, αυξημένη εμβρυϊκή 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F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 και αυξημένη Α2 αιμοσφαρίνη 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A</a:t>
                      </a:r>
                      <a:r>
                        <a:rPr b="0" lang="en-US" sz="1800" spc="-1" strike="noStrike" baseline="-25000">
                          <a:solidFill>
                            <a:srgbClr val="1f497d"/>
                          </a:solidFill>
                          <a:latin typeface="Calibri"/>
                        </a:rPr>
                        <a:t>2</a:t>
                      </a:r>
                      <a:r>
                        <a:rPr b="0" lang="el-GR" sz="1800" spc="-1" strike="noStrike" baseline="-25000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8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Λόγος α/β αλυσίδ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 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ος (υπεροχή των 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Αντιμετώπιση Ενδιάμεσης β-θαλασσαιμία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Σοβαρές καταστάσ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Βαριά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στικές παραμορφώσεις        συνεχή ή περιστασιακή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Υπολειπόμενη ανάπτυξη                         μετάγγιση αίματο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Ηπιότερες καταστάσ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αρακολούθη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υμπτωματική αγωγ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ight Brace 5"/>
          <p:cNvSpPr/>
          <p:nvPr/>
        </p:nvSpPr>
        <p:spPr>
          <a:xfrm>
            <a:off x="4648320" y="2451240"/>
            <a:ext cx="155520" cy="1282680"/>
          </a:xfrm>
          <a:custGeom>
            <a:avLst/>
            <a:gdLst>
              <a:gd name="textAreaLeft" fmla="*/ 0 w 155520"/>
              <a:gd name="textAreaRight" fmla="*/ 56160 w 155520"/>
              <a:gd name="textAreaTop" fmla="*/ 3960 h 1282680"/>
              <a:gd name="textAreaBottom" fmla="*/ 127872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Έλασσον ή Ετέροζυγη β-θαλασσαιμί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Ετεροζυγωτία φυσιολογικής κ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παθολογικής</a:t>
            </a: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 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Ν 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 ή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Φορείς της νόσου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               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Ελλάδα 7,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Κύπρος,  Σαρδηνία 15-1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Μαύρη φυλή  0,5-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λινική Εικόν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συμπτωματικά άτομ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ύκολα αναπτύσσου αναιμία μετά από σιδηροπενία (κύηση) ή λοίμωξ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Ασθενείς με γονίδιο ελαφράς ετερόζυγης (β</a:t>
            </a:r>
            <a:r>
              <a:rPr b="0" lang="el-GR" sz="2800" spc="-1" strike="noStrike" u="sng" baseline="30000">
                <a:solidFill>
                  <a:srgbClr val="1f497d"/>
                </a:solidFill>
                <a:uFillTx/>
                <a:latin typeface="Calibri"/>
              </a:rPr>
              <a:t>+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) Μεσ.Αν.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συμπτωματικοί,  με ελαφρά μικρο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Ασθενείς με γονίδιο  ετερόζυγης β</a:t>
            </a:r>
            <a:r>
              <a:rPr b="0" lang="el-GR" sz="2800" spc="-1" strike="noStrike" u="sng" baseline="30000">
                <a:solidFill>
                  <a:srgbClr val="1f497d"/>
                </a:solidFill>
                <a:uFillTx/>
                <a:latin typeface="Calibri"/>
              </a:rPr>
              <a:t>0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  Μεσ.Α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πορεί να έχουν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ήπια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ικτυοερυθρο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ργαστηρ</a:t>
            </a:r>
            <a:r>
              <a:rPr b="1" lang="el-GR" sz="2800" spc="-1" strike="noStrike">
                <a:solidFill>
                  <a:srgbClr val="009999"/>
                </a:solidFill>
                <a:latin typeface="Arial"/>
              </a:rPr>
              <a:t>α</a:t>
            </a: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ικ</a:t>
            </a:r>
            <a:r>
              <a:rPr b="1" lang="el-GR" sz="2800" spc="-1" strike="noStrike">
                <a:solidFill>
                  <a:srgbClr val="009999"/>
                </a:solidFill>
                <a:latin typeface="Arial"/>
              </a:rPr>
              <a:t>ά</a:t>
            </a: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 ευρήματα</a:t>
            </a:r>
            <a:br>
              <a:rPr sz="2800"/>
            </a:b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τερόζυγος β-Μ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143000"/>
          <a:ext cx="8229600" cy="550692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ρυθροκυτταρικοί δείκτες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CV,MCH,MCH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ειωμένοι           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RDW: 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κ.φ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χρισμα περιφερικο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ίμα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Υποχρωμία, ανισοκυττάρωση, ποικιλοκυττάρωση, μικροκυττάρωση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βασεόφιλη στίξ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6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πεδα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Συνήθως φυσιολογικά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&gt;10gr/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RBC 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αριθμός ερυθρώ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6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υελό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Ήπια ερυθροβλαστική αντίδρασ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Ηλεκτροφόρηση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η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A2  (3,5%-5,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F κ.φ. ή αυξημμένη (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σε 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β/β</a:t>
                      </a:r>
                      <a:r>
                        <a:rPr b="0" lang="el-GR" sz="2400" spc="-1" strike="noStrike" baseline="30000">
                          <a:solidFill>
                            <a:srgbClr val="1f497d"/>
                          </a:solidFill>
                          <a:latin typeface="Calibri"/>
                        </a:rPr>
                        <a:t>o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84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Λόγος α/β αλυσίδ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ος (υπεροχή των α-αλύσω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ντιμετώπιση ετερόζυγης β-Μεσ.Αν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676520"/>
            <a:ext cx="7848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ιάγν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ικογενειακός προγραμματισμό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Όχι άσκοπη χορήγηση σιδή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υνιστάται δια βίου χορήγηση 0,5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g /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ΔΙΑΚΡΙΣΗ ΑΙΜΟΣΦΑΙΡΙΝΟΠΑΘΕΙΩΝ</a:t>
            </a:r>
            <a:br>
              <a:rPr sz="18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18288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ff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Θαλασσαιμί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l-GR" sz="2500" spc="-1" strike="noStrike">
                <a:solidFill>
                  <a:srgbClr val="002060"/>
                </a:solidFill>
                <a:latin typeface="Calibri"/>
              </a:rPr>
              <a:t>Μία από τις πολυπεπτιδικές αλυσίδες της αιμοσφαιρίνης παράγεται σε χαμηλότερο ποσοστ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-θαλασσαιμί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β-θαλασσαιμί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ληρονομική παραμονή της εμβρυϊκής αιμοσφαιρίνης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17524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ff0000"/>
              </a:buClr>
              <a:buFont typeface="Calibri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Αιμοσφαιρινοπάθει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l-GR" sz="2500" spc="-1" strike="noStrike">
                <a:solidFill>
                  <a:srgbClr val="002060"/>
                </a:solidFill>
                <a:latin typeface="Calibri"/>
              </a:rPr>
              <a:t>Παραγωγή ανώμαλης αιμοσφαιρίνη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S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είναι η πιο συχνή ανώμαλη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D        σπανιότε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ight Brace 5"/>
          <p:cNvSpPr/>
          <p:nvPr/>
        </p:nvSpPr>
        <p:spPr>
          <a:xfrm>
            <a:off x="5867280" y="4191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447560"/>
              <a:gd name="textAreaBottom" fmla="*/ 14418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2"/>
                  <a:pt x="10800" y="284"/>
                </a:cubicBezTo>
                <a:lnTo>
                  <a:pt x="10800" y="10516"/>
                </a:lnTo>
                <a:cubicBezTo>
                  <a:pt x="10800" y="10658"/>
                  <a:pt x="16200" y="10800"/>
                  <a:pt x="21600" y="10800"/>
                </a:cubicBezTo>
                <a:cubicBezTo>
                  <a:pt x="16200" y="10800"/>
                  <a:pt x="10800" y="10942"/>
                  <a:pt x="10800" y="11084"/>
                </a:cubicBezTo>
                <a:lnTo>
                  <a:pt x="10800" y="21316"/>
                </a:lnTo>
                <a:cubicBezTo>
                  <a:pt x="10800" y="2145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57160" indent="-857160" algn="ctr">
              <a:buClr>
                <a:srgbClr val="009999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Calibri"/>
                <a:ea typeface="바탕"/>
              </a:rPr>
              <a:t>ΘΑΛΑΣΣΑΙΜΙ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ΘΑΛΑΣΣΑΙΜΙΕΣ - ΟΡΙΣΜΟ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ι θαλασσαιμίες αποτελούν ετερογενή ομάδα κληρονομικών νοσημάτων που οφείλονται σε γονιδιακές βλάβες των πεπτιδικών αλυσίδων της αιμοσφαιρίνης,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ι οποίες οδηγούν σε ελάττωση μέχρι πλήρη αναστολή της παραγωγής μιας ή περισσότερων από πεπτιδικές αλύσους της αιμοσφαιρίνη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Είναι αποτέλεσμα μεταλάξεων που οδηγούν σε επιλεκτική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νεπάρκεια σύνθεσης των α- ή β-αλύσων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Κληρονομούνται με τον σωματικό υπολειπόμενο χαρακτή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Η μεσογειακή αναιμία (ΜΑ) ή θαλασσαιμία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είναι μία κληρονομική νόσος, κυρίως στην περιοχή της Μεσογείο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η Μεσογειακή αναιμία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η γονιδιακή βλάβ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(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έλλειψη σε γονίδιο ή μετάλλαξ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)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, έχει ως αποτέλεσμα τη μειωμένη σύνθεση ή ακόμα και τη μη σύνθεση μιας εκ των σφαιρινών α και β, οι οποίες σχηματίζουν την αιμοσφαιρίνη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Αυτό οδηγεί σε σύνθεση μη φυσιολογικών μορίων αιμοσφαιρίνης και έτσι προκαλείται αναιμία, το χαρακτηριστικότερο γνώρισμα της νόσο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- TextBox"/>
          <p:cNvSpPr/>
          <p:nvPr/>
        </p:nvSpPr>
        <p:spPr>
          <a:xfrm>
            <a:off x="1752480" y="4572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ΜΕΣΟΓΕΙΑΚΗ ΑΝΑΙΜ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πιδημιολογί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Ιδιαίτερα συχνή στους λαούς της Μεσογείου, Άραβες και Ασιάτες. Στην Κύπρο 16%, στην Ασία 3-8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ην Ελλάδα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&gt;8% του πληθυσμού είναι φορέας κάποιου   θαλασσαιμικού νοσήματο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ην Ελλάδα ~ 3,500 άτομα πάσχουν από Μ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7524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Ανάλογα  σε ποια αλυσίδα εκδηλώνεται η γενετική βλάβη:</a:t>
            </a:r>
            <a:br>
              <a:rPr sz="2800"/>
            </a:b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 α-Μεσογειακή Αναιμία ή </a:t>
            </a:r>
            <a:br>
              <a:rPr sz="2800"/>
            </a:b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β-Μεσογειακή Αναιμία,</a:t>
            </a:r>
            <a:br>
              <a:rPr sz="2400"/>
            </a:b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καθώς και διάφοροι άλλοι συνδυασμο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 - TextBox"/>
          <p:cNvSpPr/>
          <p:nvPr/>
        </p:nvSpPr>
        <p:spPr>
          <a:xfrm>
            <a:off x="38088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  <a:ea typeface="Arial"/>
              </a:rPr>
              <a:t>ΔΙΑΚΡΙΣΗ ΜΕΣΟΓΕΙΑΚΗΣ ΑΝΑΙΜΙ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β-ΜΕΣΟΓΕΙΑΚΗ ΑΝΑΙΜΙΑ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ή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β-ΘΑΛΑΣΣΑΙΜ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christos zilidis</cp:lastModifiedBy>
  <dcterms:modified xsi:type="dcterms:W3CDTF">2020-05-17T17:29:15Z</dcterms:modified>
  <cp:revision>737</cp:revision>
  <dc:subject/>
  <dc:title>Slide 1</dc:title>
</cp:coreProperties>
</file>